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6C58-DCC6-47A8-A9AB-07B5A0A09B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1812-4971-4CAB-8235-2781E4AF27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8261-AFD4-4E1C-86EE-089156BCA5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E3B27-A7F2-4DDC-A57E-9A7EE614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6075-9E86-4101-9E69-CA727FAE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8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3652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8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3652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87FE-A598-44C7-BBB6-8D4758ED56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F1995-AF4A-4F1A-9342-29648D5CC3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99960-0C0A-4709-96BC-AED37E5D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A2E3E-01E8-4C7C-A351-5AAC8AB8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C3AD8-5542-4D9F-A570-2991A322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C4C6C-BE73-4025-AA31-D01204E5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37782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228DF-C45D-4318-A666-0471BE05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8BB46-4687-43C1-8F8F-35646F95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1EBF-9071-4817-9A84-0118CBA8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1C3E6-6D1E-4EE1-A98E-86312571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4B96C-6D89-41B5-B44C-1F0356C4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63DC2-2A87-4B88-83CD-E5FA67C2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C67B8-D033-4968-BF83-D01F7C66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08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3652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08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3652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8F200-0D54-4406-935E-56FBA60D87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469A-0384-4ADC-833C-E7BBB47C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9C82-2941-4281-8ABC-FE3731EF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ABF3-A220-41F0-AB3F-BFBCBDE9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37782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AB8C8-E619-4686-842C-643D4FDE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CA6D-8789-4E72-A7D7-859EC82D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49808-F23B-460D-9A79-C0E8A280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AEB31-2A68-439E-9B07-A00DEB40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5943600"/>
            <a:ext cx="167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52920" y="5943600"/>
            <a:ext cx="83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16A2-B486-4250-980A-E071F22C27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304920" y="5943600"/>
            <a:ext cx="167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152920" y="5943600"/>
            <a:ext cx="83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8572-3147-44B8-A799-AD45007F8C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0" t="0" r="18374" b="0"/>
          <a:stretch/>
        </p:blipFill>
        <p:spPr>
          <a:xfrm>
            <a:off x="214200" y="704880"/>
            <a:ext cx="8929800" cy="6153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 rot="16200000">
            <a:off x="95040" y="680400"/>
            <a:ext cx="5605560" cy="579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217440" y="5516640"/>
            <a:ext cx="1069920" cy="741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179280" y="1717560"/>
            <a:ext cx="727416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</a:rPr>
              <a:t>Financial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Month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aire Wi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ef Finance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– year end posi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1600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iginal financial target for yea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£927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nus’ Sustainability funding receive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509k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w financial targ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£418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"/>
          <p:cNvSpPr/>
          <p:nvPr/>
        </p:nvSpPr>
        <p:spPr>
          <a:xfrm>
            <a:off x="6545160" y="263700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5-Point Star 5"/>
          <p:cNvSpPr/>
          <p:nvPr/>
        </p:nvSpPr>
        <p:spPr>
          <a:xfrm>
            <a:off x="7956720" y="3500280"/>
            <a:ext cx="287280" cy="231840"/>
          </a:xfrm>
          <a:custGeom>
            <a:avLst/>
            <a:gdLst/>
            <a:ahLst/>
            <a:rect l="l" t="t" r="r" b="b"/>
            <a:pathLst>
              <a:path w="288032" h="231867">
                <a:moveTo>
                  <a:pt x="0" y="88565"/>
                </a:moveTo>
                <a:lnTo>
                  <a:pt x="110019" y="88566"/>
                </a:lnTo>
                <a:lnTo>
                  <a:pt x="144016" y="0"/>
                </a:lnTo>
                <a:lnTo>
                  <a:pt x="178013" y="88566"/>
                </a:lnTo>
                <a:lnTo>
                  <a:pt x="288032" y="88565"/>
                </a:lnTo>
                <a:lnTo>
                  <a:pt x="199024" y="143301"/>
                </a:lnTo>
                <a:lnTo>
                  <a:pt x="233023" y="231866"/>
                </a:lnTo>
                <a:lnTo>
                  <a:pt x="144016" y="177129"/>
                </a:lnTo>
                <a:lnTo>
                  <a:pt x="55009" y="231866"/>
                </a:lnTo>
                <a:lnTo>
                  <a:pt x="89008" y="143301"/>
                </a:lnTo>
                <a:lnTo>
                  <a:pt x="0" y="8856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71748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continued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6920" y="126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cial posi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1,183k surp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chnical adjustments ‘added back’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(1,575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cial position against targe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(392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 we hit our targ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-Point Star 5"/>
          <p:cNvSpPr/>
          <p:nvPr/>
        </p:nvSpPr>
        <p:spPr>
          <a:xfrm>
            <a:off x="6770520" y="3435480"/>
            <a:ext cx="346320" cy="314280"/>
          </a:xfrm>
          <a:custGeom>
            <a:avLst/>
            <a:gdLst/>
            <a:ahLst/>
            <a:rect l="l" t="t" r="r" b="b"/>
            <a:pathLst>
              <a:path w="344812" h="313349">
                <a:moveTo>
                  <a:pt x="0" y="119688"/>
                </a:moveTo>
                <a:lnTo>
                  <a:pt x="131707" y="119689"/>
                </a:lnTo>
                <a:lnTo>
                  <a:pt x="172406" y="0"/>
                </a:lnTo>
                <a:lnTo>
                  <a:pt x="213105" y="119689"/>
                </a:lnTo>
                <a:lnTo>
                  <a:pt x="344812" y="119688"/>
                </a:lnTo>
                <a:lnTo>
                  <a:pt x="238258" y="193660"/>
                </a:lnTo>
                <a:lnTo>
                  <a:pt x="278959" y="313348"/>
                </a:lnTo>
                <a:lnTo>
                  <a:pt x="172406" y="239376"/>
                </a:lnTo>
                <a:lnTo>
                  <a:pt x="65853" y="313348"/>
                </a:lnTo>
                <a:lnTo>
                  <a:pt x="106554" y="193660"/>
                </a:lnTo>
                <a:lnTo>
                  <a:pt x="0" y="1196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95280" y="2462040"/>
            <a:ext cx="493560" cy="493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4356000" y="4581360"/>
            <a:ext cx="17416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– year end posi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15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 Total Target m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ency costs £1.59m compared to £2.2m cei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Improvement Programme - £2.5m saved against £3.7m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spend £5.9m spend in line with Trusts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647640" cy="773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311040" y="2347920"/>
            <a:ext cx="647640" cy="77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355680" y="4653000"/>
            <a:ext cx="647640" cy="77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255600" y="371628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 Louise</dc:creator>
  <dc:description/>
  <dc:language>en-US</dc:language>
  <cp:lastModifiedBy>Wilson Claire (RBQ)</cp:lastModifiedBy>
  <cp:lastPrinted>2014-02-19T14:11:01Z</cp:lastPrinted>
  <dcterms:modified xsi:type="dcterms:W3CDTF">2017-05-31T17:36:27Z</dcterms:modified>
  <cp:revision>264</cp:revision>
  <dc:subject/>
  <dc:title>Chief Executive’s  Team Brief or longer heading</dc:title>
</cp:coreProperties>
</file>